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C22-3C7C-4D5D-BADA-3F27C69D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6A3-BAB8-41EF-AB84-1299FDB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17D-E9A9-4122-8FEA-8A4C43D6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2CF-C476-4756-92F8-D6721CB5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5B9-95B5-449A-9CE3-467A9511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DE7-FCFC-48FB-978E-95BE698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AEB-BBDA-4549-9D91-DF5AB071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34C-B159-4656-9E0C-8CF7C2FB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8C4-7425-4780-A2AB-986E3C60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A51-6912-4815-9E61-6E478FCF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424-D97A-406C-BDB7-D19E86F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03D-E8B3-4A3B-AF46-C3D7646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F25F-548F-445B-B690-C0DE989D98D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CUESTA A DOCENTES DE SECUNDA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AB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62626"/>
                </a:solidFill>
                <a:latin typeface="Calibri"/>
              </a:rPr>
              <a:t>Espacio curricular en los que se implementa el material audiovi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000" y="1916280"/>
            <a:ext cx="806436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Sobre un total de trece encuestados y considerando que algunos los utilizan en varias áreas, obtenem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3 docentes utilizan material audiovisual en el área de Leng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2 en His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2 en Geograf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1 en Econom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Calibri"/>
              </a:rPr>
              <a:t>6 en Otras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edios audiovisuales más utiliz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1 Gráfic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 54.16% de los docentes encuestados, usan material audiovisual en sus cl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El 28.57% los usa al iniciar su clase y el 71.43% en el desarro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UTILIZACION DE MATERIAL AUDIOVISU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8920" y="6735240"/>
            <a:ext cx="640080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1 Gráfico" descr=""/>
          <p:cNvPicPr/>
          <p:nvPr/>
        </p:nvPicPr>
        <p:blipFill>
          <a:blip r:embed="rId1"/>
          <a:stretch/>
        </p:blipFill>
        <p:spPr>
          <a:xfrm>
            <a:off x="2279520" y="2054160"/>
            <a:ext cx="4584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El 45.83% de los docentes encuestados no usa material audiovisu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799128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Calibri"/>
              </a:rPr>
              <a:t>MOTIV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46c0a"/>
                </a:solidFill>
                <a:latin typeface="Calibri"/>
              </a:rPr>
              <a:t>Prefieren clases tradicionales 3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46c0a"/>
                </a:solidFill>
                <a:latin typeface="Calibri"/>
              </a:rPr>
              <a:t>-Los consideran poco efectivos/apropiados 2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46c0a"/>
                </a:solidFill>
                <a:latin typeface="Calibri"/>
              </a:rPr>
              <a:t>Por falta de acceso 1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46c0a"/>
                </a:solidFill>
                <a:latin typeface="Calibri"/>
              </a:rPr>
              <a:t>Por falta de capacitación 3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46c0a"/>
                </a:solidFill>
                <a:latin typeface="Calibri"/>
              </a:rPr>
              <a:t>Otros motivos 10</a:t>
            </a:r>
            <a:r>
              <a:rPr b="0" lang="es-ES_tradnl" sz="3000" spc="-1" strike="noStrike">
                <a:solidFill>
                  <a:srgbClr val="604a7b"/>
                </a:solidFill>
                <a:latin typeface="Calibri"/>
              </a:rPr>
              <a:t>%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INTERES EN CAPACITA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46c0a"/>
                </a:solidFill>
                <a:latin typeface="Calibri"/>
              </a:rPr>
              <a:t>El 91.66% de los docentes encuestados tiene interés en capacita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46c0a"/>
                </a:solidFill>
                <a:latin typeface="Calibri"/>
              </a:rPr>
              <a:t>El 8.33% no está interesado en capacita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OS DOCENTES NO USAN MATERIAL AUDIOVISUAL POR LOS SIGUIENTES MO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63640" y="666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2 Gráfico" descr=""/>
          <p:cNvPicPr/>
          <p:nvPr/>
        </p:nvPicPr>
        <p:blipFill>
          <a:blip r:embed="rId1"/>
          <a:stretch/>
        </p:blipFill>
        <p:spPr>
          <a:xfrm>
            <a:off x="2279520" y="2054160"/>
            <a:ext cx="4584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3152"/>
                </a:solidFill>
                <a:latin typeface="Calibri"/>
              </a:rPr>
              <a:t>FORMA EN QUE DESEAN CAPACITARSE LOS DOC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4 Gráfic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aterial audiovisual que utilizan los doc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5280" y="2276280"/>
            <a:ext cx="73771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-</a:t>
            </a:r>
            <a:r>
              <a:rPr b="0" lang="es-ES_tradnl" sz="3200" spc="-1" strike="noStrike">
                <a:solidFill>
                  <a:srgbClr val="898989"/>
                </a:solidFill>
                <a:latin typeface="Arial Rounded MT Bold"/>
              </a:rPr>
              <a:t>10 de los docentes encuestados usan Películas y vide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Arial Rounded MT Bold"/>
              </a:rPr>
              <a:t>-4 de los docentes encuestados usan Sala de inform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Arial Rounded MT Bold"/>
              </a:rPr>
              <a:t>-1 solo usa Ne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Arial Rounded MT Bold"/>
              </a:rPr>
              <a:t>-1 solo usa Proy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53735"/>
                </a:solidFill>
                <a:latin typeface="Calibri"/>
              </a:rPr>
              <a:t>Ramas de la Educación en las que se utiliza material audiovis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siderando que los trece docentes que utilizan material audiovisual, trabajan en diferentes ramas de la educación. Obtenem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Que 5 los utilizan en la ES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 13 de los docentes, en la ES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00:57:30Z</dcterms:created>
  <dc:creator>Sysnet</dc:creator>
  <dc:description/>
  <dc:language>en-US</dc:language>
  <cp:lastModifiedBy>Sysnet</cp:lastModifiedBy>
  <dcterms:modified xsi:type="dcterms:W3CDTF">2011-04-29T03:49:36Z</dcterms:modified>
  <cp:revision>16</cp:revision>
  <dc:subject/>
  <dc:title>ENCUESTA A DOCENTES DE SECUNDARIA</dc:title>
</cp:coreProperties>
</file>